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423-6C8B-45BC-9B2D-3D886AC3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DD2-3AA2-4D88-8796-2FA562B9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E4C-3573-4CE8-9B11-9C855178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A99-3D3D-49E2-8A27-86DF4220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4D4-3C7E-43F4-85A4-CE20A91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2FE-5DBA-4010-B784-29701239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9DE-E03E-4171-B375-F250B17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35D-2391-4FF3-AFA5-89082CA4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15E-D10C-49D6-9881-8FE1EC23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CE9-2A8D-415F-8A01-2C7F20E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E03-6E70-4E37-A3D6-DD539FC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408-98E1-4523-8FD3-49A35D7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AC0-D5D4-471F-888D-F3D56905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In Your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9520" y="2666880"/>
            <a:ext cx="4583160" cy="336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6000" y="5877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tt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 W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 R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81080"/>
            <a:ext cx="853416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go to work you are paid wages. Most people receive a wage rise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8120"/>
            <a:ext cx="79246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new wage for these people who have had a ri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657600"/>
            <a:ext cx="4647960" cy="1557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Janet is paid £245.78 a week as a sales rep. Her pay is increased by £67.89 a week. What is her new w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5584_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1825920" cy="243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53341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33412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45.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53341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7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0199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313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04920"/>
            <a:ext cx="4343400" cy="1557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John is paid £1365.78  a month as a car mechanic. He gets a pay rise of £156.82. How much is his new w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0185766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733920" cy="309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20040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20040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365.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320040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56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8862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1522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52480"/>
            <a:ext cx="5410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new wage after the pay 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43828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43828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24382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200400"/>
            <a:ext cx="46483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        £234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45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038480"/>
            <a:ext cx="47242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      £786.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87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876920"/>
            <a:ext cx="4800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      £1345.78               £234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715000"/>
            <a:ext cx="4800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      £2345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256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20040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96252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80060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6386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80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874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580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602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ing On V.A.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1447920"/>
            <a:ext cx="769608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stands for Value Added Tax and is a tax that is put on many goods by the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80" y="2438280"/>
            <a:ext cx="8001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nd guess the amount of VAT paid on the following it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00400"/>
            <a:ext cx="18288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&amp;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124080"/>
            <a:ext cx="304776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added on to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886200"/>
            <a:ext cx="2286000" cy="2517120"/>
            <a:chOff x="609480" y="3886200"/>
            <a:chExt cx="2286000" cy="2517120"/>
          </a:xfrm>
        </p:grpSpPr>
        <p:sp>
          <p:nvSpPr>
            <p:cNvPr id="84" name=""/>
            <p:cNvSpPr/>
            <p:nvPr/>
          </p:nvSpPr>
          <p:spPr>
            <a:xfrm>
              <a:off x="685440" y="3886200"/>
              <a:ext cx="2210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levision £3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440" y="4572000"/>
              <a:ext cx="16765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 £7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480" y="5257800"/>
              <a:ext cx="198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cket £56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5943600"/>
              <a:ext cx="22096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D Player £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724280" y="3809880"/>
            <a:ext cx="4191120" cy="2593440"/>
            <a:chOff x="4724280" y="3809880"/>
            <a:chExt cx="4191120" cy="2593440"/>
          </a:xfrm>
        </p:grpSpPr>
        <p:sp>
          <p:nvSpPr>
            <p:cNvPr id="89" name=""/>
            <p:cNvSpPr/>
            <p:nvPr/>
          </p:nvSpPr>
          <p:spPr>
            <a:xfrm>
              <a:off x="4724280" y="3886200"/>
              <a:ext cx="7621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6400" y="5029200"/>
              <a:ext cx="10666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13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5715000"/>
              <a:ext cx="10666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9.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3886200"/>
              <a:ext cx="76176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38680" y="4191120"/>
              <a:ext cx="9907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4.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5943600"/>
              <a:ext cx="9144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8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6600" y="4572000"/>
              <a:ext cx="8380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48720" y="5410080"/>
              <a:ext cx="9144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4680" y="3809880"/>
              <a:ext cx="9907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14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743200" y="41148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800600"/>
            <a:ext cx="32767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486400"/>
            <a:ext cx="38098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19520" y="4343400"/>
            <a:ext cx="396216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cost of these items once VAT has been ad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143000"/>
            <a:ext cx="6324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 football strip costs £20 plus £3.50  V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733400" cy="245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22860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286000"/>
            <a:ext cx="76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228600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3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97180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23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962520"/>
            <a:ext cx="5943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A guitar costs £267.55 plus £46.82 V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500200" cy="2147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51055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510552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67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1055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105520"/>
            <a:ext cx="1143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46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638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57150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314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0360" y="292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6165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76520"/>
            <a:ext cx="815328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total cost of these items by adding on the V.A.T to th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97180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A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4191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  45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£45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7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105520"/>
            <a:ext cx="4267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£589.7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03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791320"/>
            <a:ext cx="43434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£3452.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04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36576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3434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50292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7150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53.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92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4056.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8:38:31Z</dcterms:created>
  <dc:creator>LT Scotland</dc:creator>
  <dc:description/>
  <dc:language>en-US</dc:language>
  <cp:lastModifiedBy>LTS</cp:lastModifiedBy>
  <dcterms:modified xsi:type="dcterms:W3CDTF">2004-11-28T13:44:41Z</dcterms:modified>
  <cp:revision>20</cp:revision>
  <dc:subject/>
  <dc:title>Access 3 Mathematics: Unit 1 Outcome 2 - Money In Your Life.</dc:title>
</cp:coreProperties>
</file>